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BC30E-E4B2-4D39-B2C1-96185EB4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C4A8C-ED4E-4A8A-B410-7A16F287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26FFA-CFCD-4282-8E3E-94140F76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803CA-4468-409A-AB6C-D85EA771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1875-5610-4E26-BCEB-F04264AD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B901-A6E8-4E5E-83D8-6CB30191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ED2D-C399-466D-A70E-02845F83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7516-BB2B-435D-8014-88107310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6BD9-6893-422F-A643-CD9BE6E7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103D-F5AE-40F8-B8BA-E0E14EB1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4C1B-BEA7-4DC0-AEFA-3300C94B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CD16A-A9E4-4A82-BC0F-83BB6C79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2D5F-BEAD-4006-A100-825A1E9E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1C8A-4E5B-4942-8213-0E93EC1B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800F-346F-47C3-A29C-879E3BF7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56BE-41A0-4D50-A843-5AA3A811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7B0C-519E-4266-ADC5-B1F1E557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F9052-EE5A-42E1-BC21-76CB3BEF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63DAB-33DB-499F-AF6C-D1733DD5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F1A0D-3C64-4CCB-BDBD-E90CDE25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A53B5-4120-474A-A8D5-9E6F754D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0DE02-57F4-4FF0-A2D2-E47B460A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55C9B-DEDA-4183-B4D1-8479E068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4989D-1F60-4946-BB28-D5C6275C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A85B-2159-4826-9411-D884F39EB1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44D3-BCCB-4A84-A4B6-1DA2107ADF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tor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or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tor or wired codewheel is a building block of a variety of polyalphabetic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tor is a disk with electrical contacts, one for each letter of the alphabet around th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al path of the wires defines a monoalphabetic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7367760" y="4065480"/>
            <a:ext cx="1523880" cy="2590920"/>
            <a:chOff x="7367760" y="4065480"/>
            <a:chExt cx="1523880" cy="2590920"/>
          </a:xfrm>
        </p:grpSpPr>
        <p:sp>
          <p:nvSpPr>
            <p:cNvPr id="116" name=""/>
            <p:cNvSpPr/>
            <p:nvPr/>
          </p:nvSpPr>
          <p:spPr>
            <a:xfrm>
              <a:off x="7367760" y="4065480"/>
              <a:ext cx="1523880" cy="259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7520040" y="4141800"/>
              <a:ext cx="1295640" cy="2438280"/>
              <a:chOff x="7520040" y="4141800"/>
              <a:chExt cx="1295640" cy="2438280"/>
            </a:xfrm>
          </p:grpSpPr>
          <p:sp>
            <p:nvSpPr>
              <p:cNvPr id="118" name=""/>
              <p:cNvSpPr/>
              <p:nvPr/>
            </p:nvSpPr>
            <p:spPr>
              <a:xfrm>
                <a:off x="7672680" y="4141800"/>
                <a:ext cx="990360" cy="243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663040" y="4903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20040" y="4903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663040" y="4446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20040" y="4446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520040" y="5360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663040" y="581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520040" y="581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663040" y="627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20040" y="627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663040" y="5360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72680" y="45226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053560" y="452268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8043840" y="58942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72680" y="49608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8348760" y="452232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8339400" y="452268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662960" y="54464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48760" y="5446440"/>
                <a:ext cx="0" cy="9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348760" y="6379920"/>
                <a:ext cx="3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62960" y="5922720"/>
                <a:ext cx="57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8234640" y="4998960"/>
                <a:ext cx="0" cy="9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234640" y="499896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682040" y="634212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8520120" y="5437080"/>
                <a:ext cx="0" cy="90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8519760" y="54464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4611600" y="4581360"/>
            <a:ext cx="2149560" cy="2149560"/>
            <a:chOff x="4611600" y="4581360"/>
            <a:chExt cx="2149560" cy="2149560"/>
          </a:xfrm>
        </p:grpSpPr>
        <p:sp>
          <p:nvSpPr>
            <p:cNvPr id="145" name=""/>
            <p:cNvSpPr/>
            <p:nvPr/>
          </p:nvSpPr>
          <p:spPr>
            <a:xfrm>
              <a:off x="4611600" y="4581360"/>
              <a:ext cx="2149560" cy="214956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18160" y="48830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18160" y="6364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70440" y="5605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00480" y="509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65880" y="5600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83200" y="61578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48080" y="6143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35480" y="509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4EF99-FBCC-4781-916E-1247E5C63F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Ro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7840" y="1852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rotors are connected and rotated at different ra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8960" y="3274920"/>
            <a:ext cx="8305920" cy="350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729000" y="3397320"/>
            <a:ext cx="3250440" cy="2844360"/>
            <a:chOff x="729000" y="3397320"/>
            <a:chExt cx="3250440" cy="2844360"/>
          </a:xfrm>
        </p:grpSpPr>
        <p:grpSp>
          <p:nvGrpSpPr>
            <p:cNvPr id="158" name=""/>
            <p:cNvGrpSpPr/>
            <p:nvPr/>
          </p:nvGrpSpPr>
          <p:grpSpPr>
            <a:xfrm>
              <a:off x="1028880" y="3803400"/>
              <a:ext cx="1295640" cy="2438280"/>
              <a:chOff x="1028880" y="3803400"/>
              <a:chExt cx="1295640" cy="2438280"/>
            </a:xfrm>
          </p:grpSpPr>
          <p:sp>
            <p:nvSpPr>
              <p:cNvPr id="159" name=""/>
              <p:cNvSpPr/>
              <p:nvPr/>
            </p:nvSpPr>
            <p:spPr>
              <a:xfrm>
                <a:off x="1181520" y="3803400"/>
                <a:ext cx="990360" cy="243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71880" y="456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28880" y="456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171880" y="410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28880" y="410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28880" y="5022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171880" y="5479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28880" y="5479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171880" y="5936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028880" y="5936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171880" y="5022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81520" y="41842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562400" y="418428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1552680" y="55558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181520" y="4622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1857600" y="418392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1848240" y="418428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71800" y="51080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857600" y="5108040"/>
                <a:ext cx="0" cy="9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857600" y="6041520"/>
                <a:ext cx="3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171800" y="5584320"/>
                <a:ext cx="57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1743480" y="4660560"/>
                <a:ext cx="0" cy="9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743480" y="466056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190880" y="600372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2028960" y="5098680"/>
                <a:ext cx="0" cy="90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2028600" y="51080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352960" y="3794040"/>
              <a:ext cx="1294920" cy="2437920"/>
              <a:chOff x="2352960" y="3794040"/>
              <a:chExt cx="1294920" cy="2437920"/>
            </a:xfrm>
          </p:grpSpPr>
          <p:sp>
            <p:nvSpPr>
              <p:cNvPr id="186" name=""/>
              <p:cNvSpPr/>
              <p:nvPr/>
            </p:nvSpPr>
            <p:spPr>
              <a:xfrm>
                <a:off x="2505240" y="3794040"/>
                <a:ext cx="990000" cy="243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95600" y="45554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52960" y="45554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95600" y="4098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352960" y="4098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52960" y="50126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495600" y="5469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352960" y="5469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495600" y="59270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352960" y="59270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95600" y="50126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05240" y="4174560"/>
                <a:ext cx="38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886120" y="4174560"/>
                <a:ext cx="0" cy="137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2876760" y="554616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505240" y="46126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3181320" y="4174560"/>
                <a:ext cx="0" cy="43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3171600" y="417456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495520" y="509832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181320" y="5098320"/>
                <a:ext cx="0" cy="9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181320" y="6031800"/>
                <a:ext cx="32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495520" y="557460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3067200" y="4650480"/>
                <a:ext cx="0" cy="92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67200" y="4650840"/>
                <a:ext cx="43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14600" y="5994000"/>
                <a:ext cx="83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3352680" y="5088600"/>
                <a:ext cx="0" cy="90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3352680" y="5098320"/>
                <a:ext cx="14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729000" y="3984480"/>
              <a:ext cx="345600" cy="2206080"/>
              <a:chOff x="729000" y="3984480"/>
              <a:chExt cx="345600" cy="2206080"/>
            </a:xfrm>
          </p:grpSpPr>
          <p:sp>
            <p:nvSpPr>
              <p:cNvPr id="213" name=""/>
              <p:cNvSpPr/>
              <p:nvPr/>
            </p:nvSpPr>
            <p:spPr>
              <a:xfrm>
                <a:off x="729360" y="39844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29000" y="44319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9360" y="4907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29360" y="5365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9000" y="58222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3633840" y="3984480"/>
              <a:ext cx="345600" cy="2206080"/>
              <a:chOff x="3633840" y="3984480"/>
              <a:chExt cx="345600" cy="2206080"/>
            </a:xfrm>
          </p:grpSpPr>
          <p:sp>
            <p:nvSpPr>
              <p:cNvPr id="219" name=""/>
              <p:cNvSpPr/>
              <p:nvPr/>
            </p:nvSpPr>
            <p:spPr>
              <a:xfrm>
                <a:off x="3634200" y="39844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633840" y="44319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634200" y="4907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634200" y="5365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633840" y="58222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1500480" y="340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43640" y="3397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190520" y="3527280"/>
            <a:ext cx="4189680" cy="2048040"/>
            <a:chOff x="1190520" y="3527280"/>
            <a:chExt cx="4189680" cy="2048040"/>
          </a:xfrm>
        </p:grpSpPr>
        <p:grpSp>
          <p:nvGrpSpPr>
            <p:cNvPr id="227" name=""/>
            <p:cNvGrpSpPr/>
            <p:nvPr/>
          </p:nvGrpSpPr>
          <p:grpSpPr>
            <a:xfrm>
              <a:off x="1190520" y="4184640"/>
              <a:ext cx="2305080" cy="1390680"/>
              <a:chOff x="1190520" y="4184640"/>
              <a:chExt cx="2305080" cy="1390680"/>
            </a:xfrm>
          </p:grpSpPr>
          <p:sp>
            <p:nvSpPr>
              <p:cNvPr id="228" name=""/>
              <p:cNvSpPr/>
              <p:nvPr/>
            </p:nvSpPr>
            <p:spPr>
              <a:xfrm>
                <a:off x="1190520" y="4184640"/>
                <a:ext cx="38088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562040" y="4184640"/>
                <a:ext cx="0" cy="13716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62040" y="5556240"/>
                <a:ext cx="59040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514240" y="5575320"/>
                <a:ext cx="55260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3066840" y="4650840"/>
                <a:ext cx="0" cy="9241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066840" y="4651200"/>
                <a:ext cx="42876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4099320" y="3527280"/>
              <a:ext cx="12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Times New Roman"/>
                </a:rPr>
                <a:t>A goes to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229280" y="3359160"/>
            <a:ext cx="4626360" cy="2844720"/>
            <a:chOff x="4229280" y="3359160"/>
            <a:chExt cx="4626360" cy="2844720"/>
          </a:xfrm>
        </p:grpSpPr>
        <p:grpSp>
          <p:nvGrpSpPr>
            <p:cNvPr id="236" name=""/>
            <p:cNvGrpSpPr/>
            <p:nvPr/>
          </p:nvGrpSpPr>
          <p:grpSpPr>
            <a:xfrm>
              <a:off x="5614560" y="3946320"/>
              <a:ext cx="345600" cy="2206440"/>
              <a:chOff x="5614560" y="3946320"/>
              <a:chExt cx="345600" cy="2206440"/>
            </a:xfrm>
          </p:grpSpPr>
          <p:sp>
            <p:nvSpPr>
              <p:cNvPr id="237" name=""/>
              <p:cNvSpPr/>
              <p:nvPr/>
            </p:nvSpPr>
            <p:spPr>
              <a:xfrm>
                <a:off x="5614920" y="39463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14560" y="43941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614920" y="4870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614920" y="5327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614560" y="57844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229280" y="3359160"/>
              <a:ext cx="4626360" cy="2844720"/>
              <a:chOff x="4229280" y="3359160"/>
              <a:chExt cx="4626360" cy="2844720"/>
            </a:xfrm>
          </p:grpSpPr>
          <p:sp>
            <p:nvSpPr>
              <p:cNvPr id="243" name=""/>
              <p:cNvSpPr/>
              <p:nvPr/>
            </p:nvSpPr>
            <p:spPr>
              <a:xfrm>
                <a:off x="4229280" y="5013360"/>
                <a:ext cx="1114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272480" y="4713120"/>
                <a:ext cx="86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otate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y on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5905440" y="3359160"/>
                <a:ext cx="2950200" cy="2844720"/>
                <a:chOff x="5905440" y="3359160"/>
                <a:chExt cx="2950200" cy="28447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385680" y="33685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5905440" y="3359160"/>
                  <a:ext cx="2950200" cy="2844720"/>
                  <a:chOff x="5905440" y="3359160"/>
                  <a:chExt cx="2950200" cy="284472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905440" y="3359160"/>
                    <a:ext cx="2950200" cy="2844720"/>
                    <a:chOff x="5905440" y="3359160"/>
                    <a:chExt cx="2950200" cy="2844720"/>
                  </a:xfrm>
                </p:grpSpPr>
                <p:grpSp>
                  <p:nvGrpSpPr>
                    <p:cNvPr id="249" name=""/>
                    <p:cNvGrpSpPr/>
                    <p:nvPr/>
                  </p:nvGrpSpPr>
                  <p:grpSpPr>
                    <a:xfrm>
                      <a:off x="5905440" y="3765600"/>
                      <a:ext cx="1294560" cy="2438280"/>
                      <a:chOff x="5905440" y="3765600"/>
                      <a:chExt cx="1294560" cy="2438280"/>
                    </a:xfrm>
                  </p:grpSpPr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6057720" y="3765600"/>
                        <a:ext cx="989640" cy="243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7047720" y="45273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5905440" y="45273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7047720" y="40701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5905440" y="40701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>
                        <a:off x="5905440" y="49845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7047720" y="54417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5905440" y="54417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8" name=""/>
                      <p:cNvSpPr/>
                      <p:nvPr/>
                    </p:nvSpPr>
                    <p:spPr>
                      <a:xfrm>
                        <a:off x="7047720" y="58989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5905440" y="58989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7047720" y="49845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057720" y="4146480"/>
                        <a:ext cx="38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438600" y="4146480"/>
                        <a:ext cx="0" cy="13716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 flipH="1">
                        <a:off x="6429240" y="5518080"/>
                        <a:ext cx="609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057720" y="4584600"/>
                        <a:ext cx="6850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5" name=""/>
                      <p:cNvSpPr/>
                      <p:nvPr/>
                    </p:nvSpPr>
                    <p:spPr>
                      <a:xfrm flipV="1">
                        <a:off x="6733440" y="4146120"/>
                        <a:ext cx="0" cy="438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6" name=""/>
                      <p:cNvSpPr/>
                      <p:nvPr/>
                    </p:nvSpPr>
                    <p:spPr>
                      <a:xfrm flipH="1">
                        <a:off x="6723720" y="4146480"/>
                        <a:ext cx="333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" name=""/>
                      <p:cNvSpPr/>
                      <p:nvPr/>
                    </p:nvSpPr>
                    <p:spPr>
                      <a:xfrm>
                        <a:off x="6048000" y="5070240"/>
                        <a:ext cx="6850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" name=""/>
                      <p:cNvSpPr/>
                      <p:nvPr/>
                    </p:nvSpPr>
                    <p:spPr>
                      <a:xfrm>
                        <a:off x="6733440" y="5070240"/>
                        <a:ext cx="0" cy="943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" name=""/>
                      <p:cNvSpPr/>
                      <p:nvPr/>
                    </p:nvSpPr>
                    <p:spPr>
                      <a:xfrm>
                        <a:off x="6733440" y="6003720"/>
                        <a:ext cx="323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6048000" y="5546520"/>
                        <a:ext cx="571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" name=""/>
                      <p:cNvSpPr/>
                      <p:nvPr/>
                    </p:nvSpPr>
                    <p:spPr>
                      <a:xfrm flipV="1">
                        <a:off x="6619320" y="4622760"/>
                        <a:ext cx="0" cy="923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" name=""/>
                      <p:cNvSpPr/>
                      <p:nvPr/>
                    </p:nvSpPr>
                    <p:spPr>
                      <a:xfrm>
                        <a:off x="6619320" y="4622760"/>
                        <a:ext cx="437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6067080" y="5965920"/>
                        <a:ext cx="8373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 flipV="1">
                        <a:off x="6904800" y="5060880"/>
                        <a:ext cx="0" cy="905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" name=""/>
                      <p:cNvSpPr/>
                      <p:nvPr/>
                    </p:nvSpPr>
                    <p:spPr>
                      <a:xfrm flipH="1">
                        <a:off x="6904800" y="5070240"/>
                        <a:ext cx="142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7381440" y="3755880"/>
                      <a:ext cx="990360" cy="2438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8372160" y="45180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7229160" y="45180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72160" y="40608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229160" y="40608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229160" y="49752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372160" y="54324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7229160" y="54324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8372160" y="58896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7229160" y="58896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8372160" y="49752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7381440" y="4137120"/>
                      <a:ext cx="380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flipH="1">
                      <a:off x="8057520" y="4137120"/>
                      <a:ext cx="333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89" name=""/>
                    <p:cNvGrpSpPr/>
                    <p:nvPr/>
                  </p:nvGrpSpPr>
                  <p:grpSpPr>
                    <a:xfrm>
                      <a:off x="8510040" y="3946320"/>
                      <a:ext cx="345600" cy="2206440"/>
                      <a:chOff x="8510040" y="3946320"/>
                      <a:chExt cx="345600" cy="2206440"/>
                    </a:xfrm>
                  </p:grpSpPr>
                  <p:sp>
                    <p:nvSpPr>
                      <p:cNvPr id="290" name=""/>
                      <p:cNvSpPr/>
                      <p:nvPr/>
                    </p:nvSpPr>
                    <p:spPr>
                      <a:xfrm>
                        <a:off x="8510040" y="3946320"/>
                        <a:ext cx="33300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E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"/>
                      <p:cNvSpPr/>
                      <p:nvPr/>
                    </p:nvSpPr>
                    <p:spPr>
                      <a:xfrm>
                        <a:off x="8510400" y="4394160"/>
                        <a:ext cx="3452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A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2" name=""/>
                      <p:cNvSpPr/>
                      <p:nvPr/>
                    </p:nvSpPr>
                    <p:spPr>
                      <a:xfrm>
                        <a:off x="8510040" y="4870080"/>
                        <a:ext cx="33300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B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3" name=""/>
                      <p:cNvSpPr/>
                      <p:nvPr/>
                    </p:nvSpPr>
                    <p:spPr>
                      <a:xfrm>
                        <a:off x="8510400" y="5327280"/>
                        <a:ext cx="3452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C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"/>
                      <p:cNvSpPr/>
                      <p:nvPr/>
                    </p:nvSpPr>
                    <p:spPr>
                      <a:xfrm>
                        <a:off x="8510400" y="5784480"/>
                        <a:ext cx="3452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7719480" y="335916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7762320" y="4137120"/>
                      <a:ext cx="0" cy="1371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flipH="1">
                      <a:off x="7657560" y="5994360"/>
                      <a:ext cx="714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7381440" y="4603680"/>
                      <a:ext cx="275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7381440" y="5060880"/>
                      <a:ext cx="495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flipH="1">
                      <a:off x="7876440" y="4584600"/>
                      <a:ext cx="504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7391160" y="5946840"/>
                      <a:ext cx="7329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 flipH="1">
                      <a:off x="8105040" y="5051520"/>
                      <a:ext cx="256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>
                      <a:off x="7761960" y="5508720"/>
                      <a:ext cx="609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7657560" y="4603680"/>
                      <a:ext cx="0" cy="1390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 flipV="1">
                      <a:off x="7886160" y="4574880"/>
                      <a:ext cx="0" cy="485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V="1">
                      <a:off x="7552800" y="4250880"/>
                      <a:ext cx="0" cy="1266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7552800" y="4251240"/>
                      <a:ext cx="523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8067240" y="4146480"/>
                      <a:ext cx="0" cy="1144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8114760" y="5051520"/>
                      <a:ext cx="0" cy="895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0" name=""/>
                  <p:cNvSpPr/>
                  <p:nvPr/>
                </p:nvSpPr>
                <p:spPr>
                  <a:xfrm>
                    <a:off x="7353000" y="5508720"/>
                    <a:ext cx="199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11" name=""/>
          <p:cNvGrpSpPr/>
          <p:nvPr/>
        </p:nvGrpSpPr>
        <p:grpSpPr>
          <a:xfrm>
            <a:off x="6058080" y="4136760"/>
            <a:ext cx="2323440" cy="1381320"/>
            <a:chOff x="6058080" y="4136760"/>
            <a:chExt cx="2323440" cy="1381320"/>
          </a:xfrm>
        </p:grpSpPr>
        <p:sp>
          <p:nvSpPr>
            <p:cNvPr id="312" name=""/>
            <p:cNvSpPr/>
            <p:nvPr/>
          </p:nvSpPr>
          <p:spPr>
            <a:xfrm>
              <a:off x="6058080" y="4146480"/>
              <a:ext cx="371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38600" y="4146480"/>
              <a:ext cx="0" cy="13716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38600" y="5518080"/>
              <a:ext cx="61884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91160" y="5508720"/>
              <a:ext cx="16164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553160" y="4250880"/>
              <a:ext cx="0" cy="12574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53160" y="4251240"/>
              <a:ext cx="51408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8067600" y="4136760"/>
              <a:ext cx="0" cy="1141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67600" y="4137120"/>
              <a:ext cx="31392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4118760" y="3870360"/>
            <a:ext cx="12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Now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A goes to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05BDC-2415-4DDB-BC65-210A6EE2E6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ors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 provides a rotor type cip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Rotor under the cipher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754280" y="3405240"/>
            <a:ext cx="552456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4850A-CFBD-4758-AFDA-1CF16D0830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5T01:41:34Z</dcterms:modified>
  <cp:revision>66</cp:revision>
  <dc:subject/>
  <dc:title>CAP Cryptographic Analysis Program</dc:title>
</cp:coreProperties>
</file>